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005-AC23-4389-9D0E-3223C775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37A-6EC9-4EDF-9671-EE975295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DCA-8906-4B41-8B93-40FA1E04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E43-DD80-442D-93C2-1C6B624F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CF9-D3F9-4321-ABC2-5F1A6D1B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6B6-D20E-46FF-B386-C72B898A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635-26B5-471D-B1FF-BF1C5E77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526-D23F-4B26-8C93-4F28930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A1B-F119-4D7F-856B-8C53FCF3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1CF-4A35-4F84-9D74-E0F47E75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17C-1846-4301-BBDA-A7754EC7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1AC-8889-4C48-9BD5-339C9810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7FF1-899A-42AA-B60C-304722B8F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11240"/>
            <a:ext cx="8120160" cy="67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620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e Vi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What were their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066680"/>
            <a:ext cx="48135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Unlike many other invaders in history, the vikings weren’t trying to spread their religion –they were pag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They had to find food, live off the land, and set up sho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They drove people out and took any valuables they h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Vikings targeted the church and monasteries because they were the major sources of wealth at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54484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940360" y="4797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agabond"/>
              </a:rPr>
              <a:t>A depiction of what a Viking looked li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Long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295280"/>
            <a:ext cx="53323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 know about how their ships were built because Viking burials often included their valuables – some were buried with their bo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y had swift wooden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Vagabond"/>
              </a:rPr>
              <a:t>long ships,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powered by sails and o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shallow drought of these ships meant they were able to travel inland by river or stream to attack before local forces could resp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10200" y="1268280"/>
            <a:ext cx="2544840" cy="338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372360" y="4653000"/>
            <a:ext cx="220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agabond"/>
              </a:rPr>
              <a:t>Figureheads on ships were  raised at stem and stern as a sign of w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Long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341360"/>
            <a:ext cx="75596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Ships had overlapping planks, and measured between 17.5m and 36m in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y were steered by a single oar mounted on the starboard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nt as fast as 10 to 11 kn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Crews of 25 to 60 were common, but larger ships could carry over a hundred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Sea battles were rare. They fought close to sho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Ships were roped together in lines to face an enemy fl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Domestic B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8920" y="981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66"/>
                </a:solidFill>
                <a:uFillTx/>
                <a:latin typeface="Vagabond"/>
              </a:rPr>
              <a:t>For fishing</a:t>
            </a:r>
            <a:r>
              <a:rPr b="0" lang="en-GB" sz="2400" spc="-1" strike="noStrike">
                <a:solidFill>
                  <a:srgbClr val="ffcc66"/>
                </a:solidFill>
                <a:latin typeface="Vagabond"/>
              </a:rPr>
              <a:t> - Boats were small shallow vessels used to catch fish in rivers, lakes and fj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66"/>
                </a:solidFill>
                <a:uFillTx/>
                <a:latin typeface="Vagabond"/>
              </a:rPr>
              <a:t>For trading</a:t>
            </a:r>
            <a:r>
              <a:rPr b="0" lang="en-GB" sz="2400" spc="-1" strike="noStrike">
                <a:solidFill>
                  <a:srgbClr val="ffcc66"/>
                </a:solidFill>
                <a:latin typeface="Vagabond"/>
              </a:rPr>
              <a:t> -  Heavy ships or knorrs were trading vessels used for carrying cargo to trade with other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7640" y="1916280"/>
            <a:ext cx="359424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59640" cy="4934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Vagabond"/>
              </a:rPr>
              <a:t>Viking </a:t>
            </a:r>
            <a:r>
              <a:rPr b="0" lang="en-GB" sz="4000" spc="-1" strike="noStrike" u="sng">
                <a:solidFill>
                  <a:srgbClr val="ffcc66"/>
                </a:solidFill>
                <a:uFillTx/>
                <a:latin typeface="Vagabond"/>
              </a:rPr>
              <a:t>H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15772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Vagabond"/>
              </a:rPr>
              <a:t>The Vikings used local materials to build their 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Vagabond"/>
              </a:rPr>
              <a:t>They used stone, timber, wattle </a:t>
            </a:r>
            <a:r>
              <a:rPr b="0" lang="en-GB" sz="2400" spc="-1" strike="noStrike">
                <a:solidFill>
                  <a:srgbClr val="ffcc66"/>
                </a:solidFill>
                <a:latin typeface="Vagabond"/>
              </a:rPr>
              <a:t>and</a:t>
            </a:r>
            <a:r>
              <a:rPr b="1" lang="en-GB" sz="2400" spc="-1" strike="noStrike">
                <a:solidFill>
                  <a:srgbClr val="ffcc66"/>
                </a:solidFill>
                <a:latin typeface="Vagabond"/>
              </a:rPr>
              <a:t> daub for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Vagabond"/>
              </a:rPr>
              <a:t>They used thatch and turf for roo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74680" y="990720"/>
            <a:ext cx="6597720" cy="40291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Battles  and Tac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836640"/>
            <a:ext cx="4465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ikings did not have an official army or n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apons training began at youth in hunting, sports, and rai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fought mostly on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A line of young warriors would create a shield wall for better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y would either capture or kill their enemies Those captured would become sl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48080" cy="2838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Offensive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341360"/>
            <a:ext cx="5041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Primarily the spear, sword, and battle-ax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apons were for battle and also as a symbol of the warrior’s weal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apons were decorated with inlays, twisted wire and other accessories in silver, copper, and bron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spear was the common weapon with an iron blade 2m to 3m in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1416240" cy="268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705720" y="1676520"/>
            <a:ext cx="210492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705720" y="3429000"/>
            <a:ext cx="20844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Offensive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341360"/>
            <a:ext cx="482256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Swords were a sign of high status because they were costly to ma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blades were usually double edged and up to 90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Often warriors gave their swords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807840" cy="63356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42465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Protective Ar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371600"/>
            <a:ext cx="56228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re were circular shields up to one meter across that were car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shield may have been leather cove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Around 1000, the kite shaped shield was introduced to the Vikings to provide more protection for the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Helmets could be leather or metal- metal more likely for the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ick padding absorbed the force of blows or arrow strikes – they often used Reindeer 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104920" cy="2514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227640" y="3860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Hollywood Hel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76500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iking hel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1692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43640" y="4508640"/>
            <a:ext cx="2057400" cy="1549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981000"/>
            <a:ext cx="73152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47600"/>
            <a:ext cx="8748720" cy="671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92360" y="1916280"/>
            <a:ext cx="6191280" cy="3935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agabond"/>
              </a:rPr>
              <a:t>Who were the Vik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agabond"/>
              </a:rPr>
              <a:t>The word Viking means one who lurks in a “Vik” or bay, in effect, a pi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0000"/>
                </a:solidFill>
                <a:latin typeface="Vagabond"/>
              </a:rPr>
              <a:t>the Viking age lasted for more than 300 years, from the late 8th century to the late 11th centu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agabond"/>
              </a:rPr>
              <a:t>The Vikings, or Norse, were a phenomenal race of Scandinavian warriors  (from Norway, Denmark &amp; Sweden) who raided Northern Europe, Eastern Asia, and Eastern North Amer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4390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Protective Arm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2276640"/>
            <a:ext cx="38862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ikings wore tunics of chain-mail armor reaching below the wa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ery heavy, and not really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y took a long time to make, so were probably expensive and work by chieft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56280" cy="3954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a219"/>
                </a:solidFill>
                <a:latin typeface="Vagabond"/>
              </a:rPr>
              <a:t>Con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907920"/>
            <a:ext cx="777708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 first Viking raids were hit- and -run affairs. They sailed into a settlement, attacked and took what they could car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 British Isles and the Western portions of Europe were the main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During later invasions, the Vikings developed sett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y conquered much of Northern England in the 9th century, and established a kingdom in Ire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In return for cash Vikings negotiated peaceful coexistence and conversion to whomever they attacked. Some leaders paid ransom to Viking arm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In 911 AD Charles III of France gave Normandy (“French for territory of Norsemen”) to the Viking leader Rollos who became a Christ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Vikings adopted the French language and organized a strong state in Norman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1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Expl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Vikings reached Iceland – it become a settlement for Norwegians and Da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982 Erik the Red founded Green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Leif Erikson later landed on North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inland (Newfoundland) reached about 1000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24360" y="3575160"/>
            <a:ext cx="5219640" cy="3282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5040360" cy="31942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abond"/>
              </a:rPr>
              <a:t>What happened to the Vik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17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Vikings became citizens of the places they sett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As more became Christian, the Norse religion and culture dimin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Kings instituted taxes and the economy changed – Vikings changed from raiders to tr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European kingdoms improved defense and increased trade as a result of the Viking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707000" y="1981080"/>
            <a:ext cx="369252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0" y="60958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A Vik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The Vikings’ Leg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561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agabond"/>
              </a:rPr>
              <a:t>Many styles of the Viking ships were adopted by other European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c66"/>
                </a:solidFill>
                <a:latin typeface="Vagabond"/>
              </a:rPr>
              <a:t>Brave navigators sailed west to explore Iceland and Greenland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c66"/>
                </a:solidFill>
                <a:latin typeface="Vagabond"/>
              </a:rPr>
              <a:t>Historians have also proved that the Vikings were the first settlers on the American contin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agabond"/>
              </a:rPr>
              <a:t>The jury of English common law was a an outgrowth of Viking ideas about community obligations and sworn investig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The Vikings’ Leg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561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agabond"/>
              </a:rPr>
              <a:t>Signs of Viking influence are found in languages, vocabulary, and place-names of the areas they sett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agabond"/>
              </a:rPr>
              <a:t>They had an impact on medieval technology and trade, which was an important part of Europe’s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85800"/>
            <a:ext cx="80769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789 -Vikings begin their attacks on England.8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40 -Viking settlers found the city of Dublin in Ire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62 -Novgorod in Russia is founded by the Rus Viking, Ulri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66 -Danish Vikings establish a kingdom in York, Eng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71 -Alfred the Great becomes king of Wessex; the Danish advance is halted in Engl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72 -Harald I gains control of Nor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86 -Alfred divides England with the Danes under the Danelaw pa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00 -The Vikings raid along the Mediterranean co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11 -The Viking chief Rollo is granted land by the Franks and founds Normandy in Fra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41 -Rus Vikings attack Constantinople (Istanbu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81 -Viking leader Erik the Red discovers Green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86 -Viking ships sail in Newfoundland wa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95 -Olav I conquers Norway and proclaims it a Christian kingd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00 -Christianity reaches Greenland and Ice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00 -Leif Eriksson, son of Erik the Red, explores the coast of North Amer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00 -Olav I dies; Norway is ruled by the Da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02 -Brian Boru defeats the Norse and becomes the king of Ire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0 -Viking explorer Thorfinn Karlsefni attempts to found a settlement in North Amer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3 -The Danes conquer England; Æthelred flees to Normand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5 -Vikings abandon the Vinland settlement on the coast of North Amer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6 -Olav II regains Norway from the Da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6 -The Danes under Knut (Canute) rule Engl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28 -Knut (Canute), king of England and Denmark, conquers Norw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42- Edward the Confessor rules England with the support of the Da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66 -Harold Godwinson king of England defeats Harald Hardrada king of Norway at the Battle of Stamford Bridge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66 -William duke of Normandy defeats the Saxon king Harold at the Battle of Hasting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agabond"/>
              </a:rPr>
              <a:t>Who Were the Vik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27664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agabond"/>
              </a:rPr>
              <a:t>Viking raids eventually led to trade and colonizat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agabond"/>
              </a:rPr>
              <a:t>The Viking period describes a whole new age in Europe between about the mid 700 to 1150 AD.</a:t>
            </a:r>
            <a:r>
              <a:rPr b="0" lang="en-US" sz="2400" spc="-1" strike="noStrike">
                <a:solidFill>
                  <a:srgbClr val="3333cc"/>
                </a:solidFill>
                <a:latin typeface="Vagabon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4657680" cy="31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112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agabond"/>
              </a:rPr>
              <a:t>By the end of the first millennium the Vikings   reached North America five hundred years before Colu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99080" y="0"/>
            <a:ext cx="4444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57800" y="587700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agabond"/>
              </a:rPr>
              <a:t>An early Icelandic Manuscripts in Old Norse- the Viking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2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How do we know about the Vikin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762120"/>
            <a:ext cx="4919760" cy="68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Archaeology provides physical evidence of their conquests, settlements, and daily li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Many popular ideas of Vikings are 19th century misconceptions - such as having horns on helm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Few historical records and contemporary written sources exist any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Most information about the Viking period is recorded by monks in monasteries giving an account of atta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The Vikings were considered heathens for their attacks on monasteries and as a result were portrayed in the worst possible 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abond"/>
              </a:rPr>
              <a:t>The S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219320"/>
            <a:ext cx="646092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Saga” is a Norse word meaning t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Originally oral storytelling, when recorded they provide all the historical knowledge of the Vik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re are about forty sagas that include descriptions of historical events and voyages across the North Atlantic from Norway, Greenland and Vinland (Newfoundlan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 sagas also have records of family history such as Erik the Red who founded Greenland, and his son Leif Erickson who discovered North Ame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 Sagas were compiled in the 13th and 14th century andbased on stories that originated as early as 400 and 500 years before t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Archaeology has proven the facts of many sa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The Ed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13372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676520"/>
            <a:ext cx="5040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Norse oral religious traditions written as poems were collectively named  Ed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Considered folktales of the Vik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Eddas and Sagas were written on vellum-sheepskin or calf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Called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Vagabond"/>
              </a:rPr>
              <a:t>vellum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it is more resistant to rot and preserves much better than paper – this allowed historians to refer to these primary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R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676520"/>
            <a:ext cx="46083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Vagabond"/>
              </a:rPr>
              <a:t>Vikings used symbols called 'runes' instead of an alphab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Vagabond"/>
              </a:rPr>
              <a:t>Runes are made by mostly straight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Vagabond"/>
              </a:rPr>
              <a:t>They carved the runes into wood or stone. It is much easier to carve straight lines than curv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457440" cy="4824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R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Viking Runes"/>
          <p:cNvPicPr/>
          <p:nvPr/>
        </p:nvPicPr>
        <p:blipFill>
          <a:blip r:embed="rId1"/>
          <a:stretch/>
        </p:blipFill>
        <p:spPr>
          <a:xfrm>
            <a:off x="395280" y="981000"/>
            <a:ext cx="5176800" cy="547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00720" y="1268280"/>
            <a:ext cx="230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Can you spell out your name using ru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Why did they invade Eur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484280"/>
            <a:ext cx="6769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Raids and loot were not the whole story of the Vik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Coming from mountainous Scandinavia -  land to farm was also a commodity, they wanted more agricultural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They were interested in Europe because they saw it as technologically and politically superior to their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5105520"/>
            <a:ext cx="4191120" cy="152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48904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3:09:39Z</dcterms:created>
  <dc:creator>Trial User</dc:creator>
  <dc:description/>
  <dc:language>en-US</dc:language>
  <cp:lastModifiedBy>champagne_n</cp:lastModifiedBy>
  <dcterms:modified xsi:type="dcterms:W3CDTF">2008-12-09T21:16:02Z</dcterms:modified>
  <cp:revision>63</cp:revision>
  <dc:subject/>
  <dc:title>PowerPoint Presentation</dc:title>
</cp:coreProperties>
</file>